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8AE4-310D-443A-BF8C-97E9A379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C4DF-0DDC-423B-B444-ED6A08E5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9AB7-C02E-4A18-B95D-9273341A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A3A7-7686-4B57-886C-D4ECE890E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C6D8-DAB8-496B-BC61-2D006F5E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25BD-B12C-4606-9C84-611DC393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A920-8379-45BB-B7BC-BD4C8106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D51E-2D91-4B50-B58C-295F3F06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150D-BB98-4C6A-90A0-2F01A5EE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72C5-9ED6-4B7E-969D-DBE0A614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17E4-63F9-4470-A5C8-29CAD087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BC01-51E1-4A48-AE7A-7FD17DB9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6061-65F1-4D15-B53C-CE59A3D4AA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ETODA BACKTRACKING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Informatică, clasa a X-a,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Livia Ţoca, Andreea-Ruxanda Demco, Cristian Opincaru, Adrian Sindi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multe ori, în aplicaţii apar probleme în care se cere găsirea unor soluţii de forma x=x1x2…xn, unde xi</a:t>
            </a:r>
            <a:r>
              <a:rPr b="0" lang="ro-RO" sz="1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i, i=1,…,n, în care x1...xn trebuie să îndeplinească anumite condiţii. Am putea să generăm toate combinaţiile posibile de valori şi apoi să le alegem doar pe cele convenabi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siderând mulţimile Ai={ai,1, ai,2,…,ai,n(i)}, aceste combinaţii s-ar putea construi astfel: pentru fiecare valoare posibilă fixată pentru componenta xi, vom alege toate valorile posib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componenta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 şi pentru fiecare astfel de valoare fixată pentru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vom alege toate valorile posibile pentru componenta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zolvând problema în acest mod, deci generând toate elementele produsului cartezian A1xA2x..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 şi verificând abia apoi dacă fiecare combinaţie este o soluţie, eficienţa este scăzut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dacă de exemplu ne propunem să generăm toate cuvintele formate cu literele a, b, c, aşa încât fiecare literă să apară o singură dată, combinaţiile posibile sunt în număr de 27, dintre care convin doar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ica Backtracking propune generarea soluţiei prin completarea vectorului x în ordinea x1x2...xn şi are la bază un principiu „de bun simţ”: dacă se constată că având o combinaţie parţială de forma v1v2...vk-1 (unde v1, ..., vk-1 sunt valori deja fixate), dacă alegem pentru xk o valoare vk şi combinaţia rezultată nu ne permite să ajungem la o soluţie, se renunţă la această valoare şi se încearcă o alta (dintre cele netestate în această etapă). Într-adevăr, oricum am alege celelalte valori, dacă una nu corespunde nu putem avea o soluţi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erciţii şi proble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pentru nivelul k oarecare al vectorului soluţie am verificat toate valorile posibi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goritmul se înche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evine pe nivelul anteri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trece pe nivelul urmă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ce s-a găsit o valoare convenabilă pentru componenta k, următorul pas es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trece la componenta următoare, 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(dacă nu s-a ajuns la soluţie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ămâne la componenta k, căutând în continuare o altă valoare convenabil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evine la componenta k-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diţii se revine la componenta anterioar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ce am găsit o valoare convenabilă pentru componenta k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valoarea testată pentru componenta k nu convin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am testat toate valorile posibile pentru componenta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s11a3</cp:lastModifiedBy>
  <dcterms:modified xsi:type="dcterms:W3CDTF">2012-06-19T10:46:54Z</dcterms:modified>
  <cp:revision>32</cp:revision>
  <dc:subject/>
  <dc:title>SALARIUL</dc:title>
</cp:coreProperties>
</file>